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CDD9-D58E-490A-9FA7-FC6E4258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00DB-D65C-4D52-8E24-657C725C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F08C-3C79-40FA-AF7B-2253C409D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7CC0-542B-4467-A17B-E35A9EC8D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3BF8-7EAC-4DE4-8DC6-0EA94239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1ED1-BCAA-4948-88BA-91595F3A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18C3-ECAF-4134-93A7-FCD9B8D2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A78F-A462-4CFD-92BD-E0B459A6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6D98-808D-4EAC-B0B6-F84594A4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12CA-7865-4CFC-AFD8-3F65C7AF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BD9E-2FA9-4338-8267-67686D9D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AD82-55F8-45FD-A3F3-26736542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9982-884B-46D1-999F-B7CFE168AE5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ps.cn/" TargetMode="External"/><Relationship Id="rId2" Type="http://schemas.openxmlformats.org/officeDocument/2006/relationships/hyperlink" Target="http://www.wps.c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990720" y="2147760"/>
            <a:ext cx="10644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文档是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成的安全文档，仅可用支持安全文档的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 Office PC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、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droid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、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iO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客户端打开，当前软件版本无法保证您在安全环境下查看和编辑文档。使用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安全文档可以轻松创建和管理受保护的文件，请到</a:t>
            </a:r>
            <a:r>
              <a:rPr b="0" lang="en-US" sz="24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"/>
              </a:rPr>
              <a:t>WPS</a:t>
            </a:r>
            <a:r>
              <a:rPr b="0" lang="zh-CN" sz="24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"/>
              </a:rPr>
              <a:t>官网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载，或联系您的企业管理员获取最新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本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1T09:46:00Z</dcterms:created>
  <dc:creator/>
  <dc:description/>
  <dc:language>en-US</dc:language>
  <cp:lastModifiedBy>演示人</cp:lastModifiedBy>
  <dcterms:modified xsi:type="dcterms:W3CDTF">2017-03-10T02:36:25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22</vt:lpwstr>
  </property>
  <property fmtid="{D5CDD505-2E9C-101B-9397-08002B2CF9AE}" pid="3" name="_MarkAsFinal">
    <vt:bool>1</vt:bool>
  </property>
</Properties>
</file>